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066463"/>
        <c:axId val="38946791"/>
      </c:barChart>
      <c:catAx>
        <c:axId val="50066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46791"/>
        <c:crosses val="autoZero"/>
        <c:auto val="1"/>
        <c:lblAlgn val="ctr"/>
        <c:lblOffset val="100"/>
        <c:noMultiLvlLbl val="0"/>
      </c:catAx>
      <c:valAx>
        <c:axId val="38946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66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65B-4004-444A-815E-7514E123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CF1-91D9-427D-AD29-C9876E4F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B33-53BC-4937-8ABD-33BC8D91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AC8-DE3D-4485-8F1E-F7DB4936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D603-3546-4B2C-B47E-05E67C1D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F646-8C7A-4FA7-A7F9-E6D92925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755-72A6-4752-9847-B8031D6D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9B8-369E-4701-AFE9-0A7FE326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0F52-7167-40A1-8EE4-961D057F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214-50BA-4E51-961E-99CE952A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EF3-DB2D-45D3-A5C9-16213DDF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BFF-7028-4191-8E18-B4555D51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115E9-CCF1-4C79-949D-C1999BDAD6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