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26883"/>
        <c:axId val="2864365"/>
      </c:barChart>
      <c:catAx>
        <c:axId val="61826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4365"/>
        <c:crosses val="autoZero"/>
        <c:auto val="1"/>
        <c:lblAlgn val="ctr"/>
        <c:lblOffset val="100"/>
        <c:noMultiLvlLbl val="0"/>
      </c:catAx>
      <c:valAx>
        <c:axId val="2864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6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242-3D00-41B6-93E5-94D77FB5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EA5-1E1E-475E-810F-69BEEBA9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64A-FF16-4802-8887-E3BE146A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BCF-409A-41E8-AC23-82B47E1A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81C-F3C7-46BA-8B2B-7DC5DC53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B00-E696-443D-9BCD-2E66E4E7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86D-9212-44AE-914D-7E7EDAAB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3BF-F903-41DD-989C-8794CC3B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B6B-7FC2-4658-8E0C-40847A6A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35F-AB64-4B19-B584-2912CB7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5A0-B40D-4A72-BC2D-6E43C118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645-6F78-4D80-AA8C-58CCEF0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99552-7979-4E17-AED6-8222819B79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