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17372"/>
        <c:axId val="62960027"/>
      </c:barChart>
      <c:catAx>
        <c:axId val="99717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0027"/>
        <c:crosses val="autoZero"/>
        <c:auto val="1"/>
        <c:lblAlgn val="ctr"/>
        <c:lblOffset val="100"/>
        <c:noMultiLvlLbl val="0"/>
      </c:catAx>
      <c:valAx>
        <c:axId val="62960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17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F6F-1F1D-4EC6-89E6-7D6D61D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F6A-A689-4A1F-A9DD-1694BED1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623-03EF-428F-ACC4-D3AF39D1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5BF-7B16-4BBC-93CE-C7D5E288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D1C-AA7F-4739-A810-1956BAE8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39E-89B1-4DA8-BF8F-F0A0E5BF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89F-FBDD-49EB-AE5A-3698E99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109-7842-4E13-BD54-0B5E459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77B-3084-4275-AD2C-3710849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2C9-1394-44B3-B0D9-B9AD1D8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F57-4B12-4A77-8824-81FC2B0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0A6-E688-474C-AA5B-D6E3ADAE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42DC3-5855-4469-A2F7-8E6D199AD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