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462312"/>
        <c:axId val="26469088"/>
      </c:barChart>
      <c:catAx>
        <c:axId val="994623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69088"/>
        <c:crosses val="autoZero"/>
        <c:auto val="1"/>
        <c:lblAlgn val="ctr"/>
        <c:lblOffset val="100"/>
        <c:noMultiLvlLbl val="0"/>
      </c:catAx>
      <c:valAx>
        <c:axId val="264690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623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DC78-9753-4A2C-AA7D-F64A315D7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0A52-6D8D-42EA-8FBA-CB429977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18AF-15AD-4675-8D47-DED854CDE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A8E5-646C-46FD-B670-C22E0F74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D965-7C50-4DF4-ACC0-0DAA0871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06C2-F5AF-4933-9166-089CCB40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2F5F-888E-458B-B983-BDE0B8C5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689B-2663-4B31-B9DC-BC16CD65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2062-FC34-4CF8-ACCE-4F20B53D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1F3E-A453-4DEA-96CC-67CF876C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C49B-5350-43D1-998A-A7AF9584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1CF5-8CED-4D07-8A25-DC117D44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06A2AE-08CC-42F7-977D-3E1BB35009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