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73503"/>
        <c:axId val="75825058"/>
      </c:barChart>
      <c:catAx>
        <c:axId val="757735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25058"/>
        <c:crosses val="autoZero"/>
        <c:auto val="1"/>
        <c:lblAlgn val="ctr"/>
        <c:lblOffset val="100"/>
        <c:noMultiLvlLbl val="0"/>
      </c:catAx>
      <c:valAx>
        <c:axId val="758250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735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2A6-220B-4C5E-9936-772848A8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031-3288-47C1-801C-95E7D9AA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3D56-C979-4745-A0D9-0FDB2B9B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0D0-881D-4017-A063-1A517B45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624-2047-4842-9DA0-5665248C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6AF1-8E9B-4A7A-AE99-0A2C53E2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3B72-750F-4359-ACD7-1D37440F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6E8-22B5-4136-947E-7572159C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B9F-A30E-4238-BC26-B18FA0B6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A5E-F44D-45BB-BF0B-89C31D22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91A-5313-41C2-855D-17CC52D4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61FD-9667-4030-B6AD-4CA4EECD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FF69C-A342-4581-A7E1-C019658A00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