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179"/>
        <c:axId val="32698041"/>
      </c:barChart>
      <c:catAx>
        <c:axId val="736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98041"/>
        <c:crosses val="autoZero"/>
        <c:auto val="1"/>
        <c:lblAlgn val="ctr"/>
        <c:lblOffset val="100"/>
        <c:noMultiLvlLbl val="0"/>
      </c:catAx>
      <c:valAx>
        <c:axId val="32698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8B5-B93D-48DC-BE8A-49990BA7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885-D03C-4B33-BD33-11D097E0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F59C-FFD9-4AAE-935E-1BB64034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8A6-3648-43E2-A630-DD265CFA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4F5-80AF-49B9-9A4D-1CF4D9CE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C266-4F8D-4510-965E-CD3772F3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43CA-5645-4602-8CC6-06BEA54B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3139-7321-4FB3-8B25-112C8236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27D4-7A69-45CF-80F9-FAED6092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7007-07AC-4A33-B834-A8E6AD9C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108-A479-464A-9977-7623FF96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F42-85B8-49FC-8766-E78E2FAD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F7216-6BDB-41FC-923D-03CE3DAFBE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