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1535"/>
        <c:axId val="3802062"/>
      </c:barChart>
      <c:catAx>
        <c:axId val="2141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062"/>
        <c:crosses val="autoZero"/>
        <c:auto val="1"/>
        <c:lblAlgn val="ctr"/>
        <c:lblOffset val="100"/>
        <c:noMultiLvlLbl val="0"/>
      </c:catAx>
      <c:valAx>
        <c:axId val="3802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48E-24FE-42F4-B28F-CFD2DDB4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294-8013-44E3-8067-128C258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D85-AAD2-462E-BC27-373C7A65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FFB-DB16-42F6-9900-53078A1D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066-BBE5-4789-A628-89A60ADD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3F2-BF6F-4874-BFF1-B8F8388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C6C-4E04-427D-BF29-4610709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494-C636-416E-8C64-04F7C75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B3C-6154-4C0B-AE02-AD7E9B6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47B-9D85-4C1F-8DEF-73AA755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A49-DF4D-4819-B66F-C4F3AA5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332-C5B5-426A-8DF0-DE199C1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340C-BF52-46E7-8094-C4A2962B9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