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01703"/>
        <c:axId val="73051401"/>
      </c:barChart>
      <c:catAx>
        <c:axId val="80201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51401"/>
        <c:crosses val="autoZero"/>
        <c:auto val="1"/>
        <c:lblAlgn val="ctr"/>
        <c:lblOffset val="100"/>
        <c:noMultiLvlLbl val="0"/>
      </c:catAx>
      <c:valAx>
        <c:axId val="73051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01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2CF-4012-4B3C-9140-94E757ED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BCE-417B-452F-B88B-4E69B515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542-C441-4A2F-93E9-C54756D2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725-59A2-4254-8A94-1BA4C82A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9E3-9738-4CC1-A248-23EBC2BC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541-4EFB-4974-98E1-F964DA7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D29-D1DE-46AE-AD9C-95387EDA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7C4-969E-41F8-A118-45845989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439-AB82-47B7-BDCA-F5C77F0C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BEE-C18E-4151-A262-3EEB16B5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386-B47C-497C-A07C-0CE88DCF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1E9-EA9E-4221-BDBC-E074093B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253BC-8833-4866-8C69-D0ECB5CC5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