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57969"/>
        <c:axId val="50808214"/>
      </c:barChart>
      <c:catAx>
        <c:axId val="30457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8214"/>
        <c:crosses val="autoZero"/>
        <c:auto val="1"/>
        <c:lblAlgn val="ctr"/>
        <c:lblOffset val="100"/>
        <c:noMultiLvlLbl val="0"/>
      </c:catAx>
      <c:valAx>
        <c:axId val="50808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7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3D5-D7E7-4C39-9B57-98631A73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EAE-9E09-4EB3-B3B9-B55C8CF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EB9-61F2-4499-8972-1A2913EB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2B3-A07F-4C33-A908-9DBFB292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A2D-7393-4532-B3AC-38D5621F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C11-1D33-4E6B-9B49-864D1EA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977-7AB9-42FC-A213-1196E02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231-A67A-45A0-9A15-48B7C5B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AB3-9F36-4488-A940-968899B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152-C519-4DC0-8528-CAE15C8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3E2-2500-49AC-9635-103B28F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B21-10A9-4D1A-8118-D8B86A8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6FAE2-5BEB-4683-89E9-3E85B8355A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