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207506"/>
        <c:axId val="55049093"/>
      </c:barChart>
      <c:catAx>
        <c:axId val="57207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49093"/>
        <c:crosses val="autoZero"/>
        <c:auto val="1"/>
        <c:lblAlgn val="ctr"/>
        <c:lblOffset val="100"/>
        <c:noMultiLvlLbl val="0"/>
      </c:catAx>
      <c:valAx>
        <c:axId val="55049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07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275E-A169-4837-900E-982E5D48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5006-27DE-4127-B240-5F6AC30B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9D-F86D-4024-811C-81DD4E46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3B27-1D8B-40A9-9E0F-D8A96BFE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E1B-368E-4939-AC20-040FAD07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061-3056-4683-9C07-D4A4165D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AD6-D506-4964-B6AA-CA9D33F6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9310-9196-45F3-8D99-506272A1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299-4F0F-4E94-89D6-8E5F5FDC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E827-CC8D-4799-8429-3F37185E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8F54-B9DB-4FC6-ADC3-0EB64F5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C866-42BF-4587-B786-C6835A31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51233-302B-4A5E-92C3-0334543BD9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