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07436"/>
        <c:axId val="61870592"/>
      </c:barChart>
      <c:catAx>
        <c:axId val="57807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70592"/>
        <c:crosses val="autoZero"/>
        <c:auto val="1"/>
        <c:lblAlgn val="ctr"/>
        <c:lblOffset val="100"/>
        <c:noMultiLvlLbl val="0"/>
      </c:catAx>
      <c:valAx>
        <c:axId val="61870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07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9A7-9058-466D-BE4E-AF34B989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220-CDD8-453F-B9AC-0BE3DC3E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A64-9BB5-49EB-97B4-9ACE9B0C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2E5-DFE6-4FD8-A4BC-D4FF9EB3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8AB-FA61-42B5-99FA-91DB7E8D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BB6-A6B9-4102-89B3-F5E33CE3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CDF-6592-4E0A-B2F9-F7C4A188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A84-ABAE-4729-B6F1-8CB75F97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FB1-DD90-4E8A-AA99-0653FF0C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DE7-967B-4DC2-A06A-B72C798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9AE-AA3B-4C54-8C8D-8E5973FC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E0D-9ABB-4498-B1A3-A6ED6EA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76EF2-A413-4A72-BE58-CCFEBD0CEA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