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532336"/>
        <c:axId val="68468684"/>
      </c:barChart>
      <c:catAx>
        <c:axId val="935323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468684"/>
        <c:crosses val="autoZero"/>
        <c:auto val="1"/>
        <c:lblAlgn val="ctr"/>
        <c:lblOffset val="100"/>
        <c:noMultiLvlLbl val="0"/>
      </c:catAx>
      <c:valAx>
        <c:axId val="684686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5323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B7DF-9A92-4F34-B09D-D43A0AFF6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FB49-4DFD-4985-A760-95077C7A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F525-0EC4-40DE-B855-7A1D63781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C081-A882-4403-91C8-8A43AA2CF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9639-FCEC-4F7A-A377-2BB8DBF8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654D-0FF3-4B23-8508-6CE61140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D2ED-D2D5-4D09-8F64-D848D20B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A9D2-A322-448D-85C1-42781818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214D-5F8A-4B05-B3D3-E83F4F3E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4886-C8AC-4670-A5FC-23AC734F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817F-74BC-4C8C-B410-7321F0B8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5863-2783-4880-BB16-B83DD86A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B3F01-5827-4D78-9A67-246FC192E3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