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69397"/>
        <c:axId val="33133160"/>
      </c:barChart>
      <c:catAx>
        <c:axId val="16869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33160"/>
        <c:crosses val="autoZero"/>
        <c:auto val="1"/>
        <c:lblAlgn val="ctr"/>
        <c:lblOffset val="100"/>
        <c:noMultiLvlLbl val="0"/>
      </c:catAx>
      <c:valAx>
        <c:axId val="33133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69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094-0F46-440D-8DD8-A1A454BF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9F9-A94B-418C-9F89-E2D93FD4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691-E544-43B8-AD4E-80E83881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D73-15F4-4A3A-8FFC-F079A820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D0A-36C6-41D8-A66B-01441D29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012-5D57-4217-AC61-45A76FCB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3AB-6FA8-4DAE-9D5C-3ED12103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F0E-B542-48A3-925A-A55DF776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D38-14AD-4891-8B38-E1F195D4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199-6F15-4282-BD4F-9FEA634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A54-CE3E-4A65-9644-B1CCF7BB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AD2-184B-436A-918E-D3B6955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9BC90-CA04-4EC9-94A1-9FFD7A08FE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