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405266"/>
        <c:axId val="99193054"/>
      </c:barChart>
      <c:catAx>
        <c:axId val="61405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93054"/>
        <c:crosses val="autoZero"/>
        <c:auto val="1"/>
        <c:lblAlgn val="ctr"/>
        <c:lblOffset val="100"/>
        <c:noMultiLvlLbl val="0"/>
      </c:catAx>
      <c:valAx>
        <c:axId val="991930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05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164-C1CA-4594-9390-588C418B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60C9-99B9-4845-AD39-4155AC02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4630-0E50-4F90-B099-501AF34F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44AA-2053-45B5-A4DE-BA9689552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E65F-7336-4576-B4E7-600B4B50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62B7-8286-46B0-B9CA-8092C4F7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151C-F7C3-42B8-8FC8-3633BCAD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255-2501-4C0A-BC86-8F08F1BAF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AC85-7396-492A-B2D7-4BE58FA7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62A1-6EEC-4DBE-B26B-0DE40CEA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378D-98E1-4548-BB3D-526F94ED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8C6D-84F1-48FA-897F-20105B37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DE121-7856-42B7-A8A3-3E9CB491B4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