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71822"/>
        <c:axId val="57195362"/>
      </c:barChart>
      <c:catAx>
        <c:axId val="41571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95362"/>
        <c:crosses val="autoZero"/>
        <c:auto val="1"/>
        <c:lblAlgn val="ctr"/>
        <c:lblOffset val="100"/>
        <c:noMultiLvlLbl val="0"/>
      </c:catAx>
      <c:valAx>
        <c:axId val="57195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71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303-14DC-4849-9FA8-692D7F5D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727-0E57-42DE-B488-AC10F989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B19-0576-4797-A276-BD03742E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BB1-89E4-48AB-8856-8E4D2E94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54BD-FFB5-491E-BE4A-7A74B1DB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343-B30F-4758-BE96-DC5C3CDB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6A7-ED55-4B9C-AE33-48422072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7EC-3206-40C4-83AC-71D0FFAE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C02-3106-4EC8-B6F8-7FCCD30A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732-62B2-4566-BB03-501E8059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9B4-37D6-4B1B-850D-0607D827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B8D-09EC-4C0B-B18B-FF1362DA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72AAF-0E1E-43D2-ABAA-1A8AD297E4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