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194-5367-4051-8698-A3636A9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1EA-4B1B-469F-88B1-E622EF8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73FDB-3B33-4E24-B313-D70F8FE9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5A2F9-DF06-4259-A486-F702A7F5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B5F8-1AC9-43D7-A51A-EF3ECCF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9F9A-97AB-4A9D-BFBA-490E72B2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834DF-6A70-412E-ADF4-67714498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75843-B48B-4057-817C-8352DAA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B071B-D48F-49D7-BBB4-60F78ABA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39DF6-1C22-413D-B918-C0D4C43C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ABD1A-0D31-442E-A20D-CFC9B5A6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41ED5-21F9-4096-A546-B22D3BD6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872-09B3-430D-ADBE-C67CEAA4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D2DAC5-7151-4B93-A9C9-00E153A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B5F68-6A15-46D6-AE69-1F5BACA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D8E61-9E49-45DA-A1E3-15FE864B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40BD28-39BC-4A75-A7B6-F8817D3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1325E0-68D5-4C35-B400-B12FA0A5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B85331-4EAB-4DB7-A7B4-2929D69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45967-799C-4E52-ADFF-475052F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BFB359-CD1A-4E7B-8C38-80F3D14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E9F25-08ED-4FDE-8D97-F233890E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49941-5479-4CDB-A04D-744AC661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31A-9043-424F-9683-A8BC8348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82D15-A9F6-4587-8247-308483B4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0A699-53FE-4A81-8529-083B5A9F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F36F-7EFE-4039-8C55-74D738B3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07C5-4570-4BE1-A56F-1F3BF018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6A4D-7507-4277-831D-1CA9A77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776C8-6D2A-4889-83BD-8D3D309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562E4-EC03-4E87-80B0-0236657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6280-5460-49B6-B745-040E140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6B281-1CAA-4BDB-9706-A5BDE5E2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AB526-FDC2-4235-B136-E3A4EBC4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A4B1-EB53-48B5-A3E5-0ACB2252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979D-6AF1-42CF-A8D2-B072BC60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12C7-EC98-4484-B422-C23513AD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B02E8-6230-454E-80BE-512A3F3A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75AB0-20E6-47A1-B2B9-823B858B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D9195-4186-4970-937F-F5C0268E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822F6-9815-4B15-9F4E-58DB1DBD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B50EE-B054-4C04-9A83-78E4EF05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57DCC-BAC1-4B21-B25E-7DF8AEE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C167-496C-4719-9AA7-1E1F153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9CF3C-C199-4872-9368-A9F792D2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D74-A692-4EA7-9F4D-2E4A294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AF4D-F777-4C2B-B372-F030086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2B6AC-8139-4066-8F1F-A9ABB22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D30F3-8BB3-43F7-BF0A-84C6F439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2E6BD-2F31-4022-8DEB-19E5020E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28482-11CC-4CA3-A261-AE1C280D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5AEA-9009-4E40-85FB-B858F41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6F6-1FE0-455B-8EC3-D187206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E87-88FE-4AED-B006-28DA0DF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AF77-36CF-4C7A-8F01-026A813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DC80-756A-4A8D-9E3E-8BF7AA1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A65-7E3A-485B-8ABC-4BF4103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AF6A-628B-4C33-B709-1BA7DA6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20A3-5905-4D3F-B79C-28C0392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00B0-4F8A-45A5-A2A5-21AAE83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805-7E1A-4949-944D-F113CD32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9D61-0018-4622-9A83-7E826C3C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1A90-B2CB-4528-AEBF-16DAA09D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3DC8-EA54-4EBC-89C1-02DF422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33F4-67FD-4393-9F45-BC08EC11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2F65-238F-4B60-A7B0-7D3F2E2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F246-A774-43ED-B102-855E749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C0B-67CC-4A24-AA2E-4EFD7B5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998C-54C8-4147-BB2E-98F9AAB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4765-2435-485A-A469-5DC4BCA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9F08-65A9-4214-9FE6-75C8B2B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99D5-A858-4460-ABE8-C81E7DC3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24B3-8FD6-4F97-80AD-1FCE4B41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5263-E234-4CA6-BAA8-1A77E90E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4828-2E00-4251-81F5-C65AD17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72F7-2055-490A-8FB0-FD93BAB5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EE65-3307-4167-83CD-04BEE6C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ADF8-C07E-46F6-89F6-13E9424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E23-D3C5-4E9F-8169-8946D312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ECA5-02D4-4B7E-B7C4-4C7FF372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E754-D346-4250-ABBE-4ADF7CC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2EA6-13BD-4C30-9FFE-7680139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6597-DA43-4FB0-94C2-4387D3C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38FF-A24D-448F-AEC0-ACB5ACB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4A1C-80E7-46BE-800B-1244599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CB75-A0C2-4277-8C08-E0EDCA27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8863-11C9-4D2B-9A06-B33587FF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BA5D-5079-4EF5-B7A4-ECD1EC55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10357-B32A-4A8E-8491-1D9450F2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197-8493-42E1-B7DC-B1BD5078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72A79-FB1B-4F5E-BEFE-499795E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27DBC-D802-4BBE-984F-C668086C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A500A-0536-4931-B8F2-B459E6C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3BA81-9687-49D2-AD94-27D28B5C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42D27-A66B-438C-B24D-2708199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4F033-48BF-449B-BEAA-A83415F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A652D-47B0-4751-A1E0-35D1DA3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2D9E4-4B1A-42C1-A19F-9DAF3C1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2008F-1232-4D87-9B51-C2D041C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04432-D865-4E71-91FA-74CCEB7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6B1-CDA2-4B58-A8A1-F33EC903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02E31-CD9F-4FDB-9ECD-23A8FE65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0C4E8-4FD1-415E-8B6A-1347A64A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DB65-B439-4689-A868-67EE5678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2ECC-1DC6-4E0C-9BEA-411B3C2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98C6-0D86-4B6E-AB3B-6743A89B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353CF-AC6D-40E7-8574-2E29867E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386A3-CF50-4F15-B893-EC02871B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5C0A-E23F-4FC0-92DA-53AAB933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A05F-4663-45D8-82D3-3D4837A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D545-DD54-4BD9-AB09-BD71035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C01-6CCC-4C10-8794-F978644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214B-B90F-495F-9134-40F4050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4069-D83C-4FFC-8AB5-FAE1DD42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FA35-BF08-4B31-9575-761B794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A358-87E7-45FF-A820-386E0DA0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2D2F3-2F71-4A70-8FB0-6A219B1D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277F-778D-4265-8E63-F776E9E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76DE-D431-410D-B6C9-B7BFC37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C9D4A-BBC4-4396-8B06-C59DD12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4936-CC98-4534-894A-59BE631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90F7-245E-4F40-9337-95F1320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C29-EFC4-4635-84EA-1714070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5330-97F5-46C4-A251-94CFA1B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4C8F-E6C6-497C-A284-528E34A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6CBB-78D8-4019-B14B-D18BFA9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F465-84BA-43BD-A1CB-5C424BA2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2A28-BF10-41B4-9DAE-BD8E4F7C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B376-C176-4D37-AFC4-F6BF9ED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FF65-4494-44E3-986E-3E43D67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D2D1-91F9-42D4-A6DC-963857D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40C7-9474-4D14-9A74-E83EC59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2CCAA-D352-468A-AD16-0188D321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B81-1190-4081-AAD7-15224BE8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3EF0-DAB8-4312-AF81-7304D47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C4CF6-A90F-462B-BCD4-4BE95D33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9EAD-A7D2-47A9-9580-884261E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69C3-3DA3-4CC2-9075-14A5936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385DB-5D1E-4ED1-B176-4233157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00BB-5981-43B6-BAD7-A03A8ACB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7D68C-C6D3-440E-9A33-38683B79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4F196-20CC-4F4A-AC22-35ACF51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15E44-66E0-4EB5-AE97-2F7B561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BD6F6-9C84-4CB4-9FB0-0C50C7D4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0B3-6557-42A8-918B-5B204D099BF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8FC-E221-4C36-BA42-DFE6366F8E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5A7-ACDD-4D95-9ACB-770CB50FC5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D79-EC70-44C3-BF02-E7B03A9C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FC7C-E76E-4AE3-A7B0-251EC4A6FE6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A17A-234C-40D2-B9A4-744D4524FB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2FA7-29CB-48C8-B0F8-7982C786728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2E03-3EE4-41B4-AA2E-FCE1BC4AAD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2F38-FC4A-44FD-AA44-20F423A94F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3CA4-8861-411F-AFF0-4244C223F4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F3C5-423B-48CC-B303-A93A26A420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D94-CD8B-40E7-AAF3-ADB895424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D43C-7394-4108-A109-B7D2A28CC1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7549-3924-429B-8B4D-629257012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688-59AF-443D-B092-E32275804A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11BA-F270-4E57-A41B-C7C44053480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BC7-7FD1-404D-928E-7F2A6F055D3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5DA-1A8A-48F3-A744-89FA100A21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D4C8-F1FF-4A70-B460-E2476150A64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20C6-A06D-4B96-80CF-25DDE896E5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EB3-6939-4C22-88AF-F7246E67A6F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801F-912F-40BD-B35A-000B0DD15E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777-D2D3-4F8E-918C-EFB5679379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E343-E61B-4FC6-B697-B60E239F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A59-A7F4-4250-8DC0-BC12C99560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A8750-428F-4817-9C9B-DF9BBF12BC0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791E5-C51D-447F-9771-D96BFE4E7B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7680D1F-7BA7-4931-A503-5971FF1AC99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1D84-2574-449A-B2B5-A8E4FF32869A}" type="slidenum">
              <a:t>3</a:t>
            </a:fld>
          </a:p>
        </p:txBody>
      </p: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DCF40-45DD-44F0-8400-DB51972375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3C215E6-4518-4B13-A148-72C09FAF109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12D6-81B7-46B9-9458-300F3E1CE0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7A6714B-7D8A-470D-8E67-B67B0BF52D0D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59D1A-1B90-4904-8E18-1BD00C6E9F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7D5F702-1470-492E-8237-3978265918BF}" type="datetime1">
              <a:rPr lang="en-US"/>
              <a:t>07/29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