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59FE-1B42-432C-8DB9-79D74D581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8A16-1FF5-4E24-A327-7DCA226C3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AC164D-7982-4656-9D5E-B26179DB6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A1127C-E805-4862-B897-B60AC6D18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85A513-0255-432C-82FE-FFACAE930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DB3757-FE66-47A8-BF62-D3A0B21D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43461E-7B51-43FC-A6D2-6F88363A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E8EFFA-E054-43CE-A4CE-900A6B95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B49690-0736-4757-9598-47FF15BA0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7BC663-1C55-41C2-9D26-8979E9442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AFE674-DC87-40C5-B861-5314660AC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6D62305-10E5-494D-831F-6A4B19A00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92D8-413D-4716-A1E0-C6A0B64EA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93AF164-689E-4FE7-9150-C6506B072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41BF861-1579-435F-9CA9-A6108D500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7282F2C-8FDE-4F3C-9E8E-325621E27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60F1A4C-10A0-4C82-8119-BD6A9AC2E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836868D-104A-409A-A470-114BF5DF7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2DD0CB4-2039-4970-938F-05B1CF73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F9F85E2-C11A-4604-BEFA-B944D133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4AFDCC1-9A89-4A71-929A-401FDB24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758FDD6-8460-4DBE-B75B-391D35E7F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36F7DAF-8032-40BF-8A5C-43E4FC6B2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68D4-13D1-453C-B65D-F3804860B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C243AA5-E4B5-4580-927C-570278116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AFCCE6-3696-4BE2-BFF7-A38597222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7A4126-AA7A-452B-8EB5-EDC7578B3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1BF555-4FC8-467B-ACBD-00A5EFDC4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19534E-343A-46E4-8D7B-0C2913186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634819-767C-4888-8399-32A02F467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D77A21-65AA-4A07-9275-59F784F6B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6F1A18-C6E5-4FCC-9477-A6E2CBFE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151C4E-42AF-408F-89A0-76BAB026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701A9B-16A5-48B7-B5D2-91889377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6D449-FE53-4A8B-9FFA-02EB17E24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AED0CB-77ED-467D-94BE-98BECF0C7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A767D4-F7A3-4F70-974E-A306660C5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14A304-62DA-4F9E-807D-40FF9D1DA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D5A36E-8EBC-46E6-B0FC-927F3E693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ED40A7-2465-4EBE-A376-73BC51ADE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19A5BC-C409-42FA-8970-1822781D9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2876B2-0127-4F69-8A59-8364073C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D7C04F-7EE0-40BA-8859-4BEC264CF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7CB001-F0A1-4733-93C3-3175330D1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D9C141-BABE-45B5-A40B-BD3A2AE1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F2C33-DB48-49A9-BB52-3AD2168F8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1A2816-65A8-4957-B9F6-2221F718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D39BC3-C001-4451-8DB8-32CDE087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E20171-9835-43D0-9C88-637AD4C08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DA65FE-84A8-428A-8C6D-051D3B7E1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FCEBFA-4D79-4308-B660-5CFE51CE7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F33FD-0885-48AC-9D4A-957A3B6E1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4F645-6D10-4492-AD02-EFC927E58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86FCE-83B1-44F7-8B79-3B5BAD996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65754-284F-488B-9681-1EBA52E68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0125B-CF00-4965-8501-B0D5AC74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740E-DE3F-416B-91A8-EE1455A24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CC1EA-121C-48EA-A6E4-A49463FE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1D9E1-9626-4587-8CAB-1F54987D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02264-8C4C-433D-9B60-0C5129932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39BB4-AC3B-448B-934E-53893A8FC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9652F-76C3-493A-BA9D-531E721F1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A06D1-F599-4618-B93D-B82CD11ED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D2F4C-E14D-48AD-88BA-15A12D37E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248B0-D78D-46E6-9F14-E261FB8A8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5ABEC-F530-49B0-BC46-5622A431E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B9FE0-DE7A-460C-8DC3-E9A794003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2660-69AD-4056-988D-BFE462CE4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9AF35-723D-4870-969F-093DFCC82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7A27C-4CC7-4925-A2EE-CD161602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CAC84-429F-465A-BAAF-876C52A7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015D3-6E50-4988-B672-AD6FFE61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A8FCE-C671-4B2D-BEA2-1A87D20D9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53A94-B3D9-499B-A7E6-882F0B2A5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EC69B-8B4B-408D-BC0B-6643A8E69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8345A-FD39-499F-ACF8-F50469C78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16D7A-3CC1-46BA-BE68-DFD905F45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0441D-C9A9-447A-83F5-814845F6B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BF9C-8215-4870-A984-A272ACC15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C5667-2B48-4CC9-9186-6036290EE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3DB55-8A24-44B9-8385-AF8CA3E0A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15FF1-42E3-4474-9839-B2E5EBD1D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F174E-3489-4C22-85E7-CE94D094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1E09F-9F6B-47FE-9224-49C0756A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9B468-F133-44AD-A248-3D606210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FCC52-7E15-4914-A3FF-EA6309C10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30363-8231-499B-B49F-730DC32C1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14699-CE99-455E-8393-A506E6E61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BECF59-F995-4B22-A6D7-62217F3B2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2831-2FF0-4DEC-B1D0-B1A1F1E0F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230518-2CCF-4B21-ADD0-B04EE25AE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2D47A2-1E42-4A14-9A45-49A467122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D3893E-7973-4E92-88FD-9E9995891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A8BF4A-EB86-4A16-8DC2-2F76ABB2C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8010C5-4025-46EC-8865-97F4DEB62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32759D-EBC9-4161-9A81-3C0D91F5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99F93F-1213-40B5-AABD-754D082B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24ADB6-DFEE-4DA7-BC45-2265FC53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3595EF-660C-4854-A043-1745B7F83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C495D5-E316-4183-A37E-115028C53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128B-7C67-4BE8-9E73-EC918C195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BA5099-E76B-4FBE-845B-F6AB637AF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BE3D0-47CB-407A-8F50-65EA5FA94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D118D7-1936-4611-9A35-B4DE17892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E53C5-F803-4661-88ED-E56AF0B83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B69B4-9791-4767-9BFC-693F15DDA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7C60E-1A55-44C1-9104-9FDCD0673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F1675-0398-4B39-9B66-8046B0036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0FE3A-E718-4E5F-B88F-AA03D077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B53F5-3AE8-4A54-85C8-7C6CF781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6057E-4A9A-4168-BD17-7A31E2E5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378B-AD0E-43DE-B2A2-56485B8B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A7B03-6280-434D-87EE-3B7E04A56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FC615-3672-4BBC-862D-20E6F2B7E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BA61B3-DE88-43DF-821D-B3611D755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F194A1-D6BE-4DAC-9E1B-7F43493D3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1C546-77B7-4F51-9FAE-D2420600C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9EA733-08FD-4F3F-B800-17FFFB7DE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86A083-E392-44D0-96D3-DFCADA989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79974F-D33D-4709-9D9C-F29FB512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673E34-CA7F-40FA-9856-FE6185949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0CC61-0401-4F7F-95D2-7259655A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EC91-136B-4944-AFE8-59651992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4DD35E-549F-4126-A18D-19C1AFFC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44C09-50B6-4917-B71F-B973E001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B723E-1E9C-40FC-A4CA-A8972E187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C8EBD7-822A-4426-9E9D-ABB232B45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034B04-F7D0-4EFE-B5C1-AFB8EFDC2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8A4C20-0FB5-49CE-A5DA-75C1EE4AF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BEEBA-8CC5-43ED-BDA3-1C68A6EE4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B4F7FB-AA99-4987-9FEF-308377485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B72809-8D4B-4E21-8D08-18A0B75DE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E23BF-88C2-4791-9798-A71995732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94A3-59FB-43BD-8650-03E61E6E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EB2ED-AB3F-4892-BE15-DB2841D96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BF25D7-1512-4727-919A-CD93A9C6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7AEA6B-1F64-49E4-ADBA-DBAA33B8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D57039-9541-4B2A-A0E3-CC0AB7C4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7E55CA-D496-4CE7-B245-FD8DCE670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A9A0B5-2E12-4390-A9A6-D99FB1FB5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38AE72-B178-4F54-AD05-C1870F948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2E283D-6302-4B1E-8947-460777158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C3BB55-0320-46A4-A0C5-84BB22816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8011D2-30F1-43C6-A708-66D399441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CB889-1AE8-4E10-8954-00B41A0FCF2D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D4EFE-3CFC-4373-AF0A-5416E07332D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F5C50-BCDB-4DD7-91FA-E1CF25854D5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0D74C-65C5-412F-894E-A1A184E05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66678-A2CD-407C-A46F-05A3CEB60FA8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D67E1-7129-4E96-8C45-3C0BDD94EEF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788E9-4525-435B-9F51-60BF05293326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5B434-E5F7-41DF-AD1C-20041BFBBDA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64F92-658B-4C2A-BEC1-39B69DEBAF64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C1E5F-ACF8-4C6D-8A16-C8EBD8A4F65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25E92-09AF-4072-A664-12A74ACAC4D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2CE34-9655-46E9-9839-272AC27E62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4245F-A0E3-4F75-AD01-0C497AFDE4F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C554A-5355-4528-8503-DE3A36764E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2994E-F9AC-4A50-AC64-3D713969C93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2801-1F07-4203-8298-E44BA7F5EF44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5F77A-FD6C-4112-B538-B3AA3DBEC4B2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21EC6-D895-4CC2-8682-D17C311B8B8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9FFF-8ADB-45E2-8890-DDFB7D3B50E7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8A1E-EA7D-4E67-A020-FE5404B7B93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0E96D-7182-45B8-BE20-A813CC1DA825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5477E-4F74-4ACE-BEF6-D79E9E769EB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18BF2-5C20-43F0-A540-BBC50F02BA9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2D3D-D5F8-4B1E-B8E0-7A6E47AB4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E32A-45F6-43A2-AE5B-2FF77B512D3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5DA0E9-0516-4B4E-8C92-C526F8298657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A96E83-D160-49EA-8C22-F0E5BF8763D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BE369AD4-0044-4D83-AE08-8D4214446426}" type="datetime1">
              <a:rPr lang="en-US"/>
              <a:t>07/30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15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5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20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32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3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F7C4E-6DC3-480F-B397-F8B644BE45AF}" type="slidenum">
              <a:t>3</a:t>
            </a:fld>
          </a:p>
        </p:txBody>
      </p:sp>
    </p:spTree>
  </p:cSld>
  <p:transition>
    <p:comb dir="horz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0"/>
                            </p:stCondLst>
                            <p:childTnLst>
                              <p:par>
                                <p:cTn id="2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7472D2-E733-4BC8-9013-54127DFB8D51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9DCD8530-11E3-4B35-9B3A-E08866C9E225}" type="datetime1">
              <a:rPr lang="en-US"/>
              <a:t>07/30/26</a:t>
            </a:fld>
          </a:p>
        </p:txBody>
      </p:sp>
    </p:spTree>
  </p:cSld>
  <p:transition>
    <p:wedge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4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8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6000"/>
                            </p:stCondLst>
                            <p:childTnLst>
                              <p:par>
                                <p:cTn id="2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2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8000"/>
                            </p:stCondLst>
                            <p:childTnLst>
                              <p:par>
                                <p:cTn id="2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6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2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0"/>
                            </p:stCondLst>
                            <p:childTnLst>
                              <p:par>
                                <p:cTn id="2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FB55F9-FBE5-4BAF-A11F-8E0020F3D65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A3A755BF-C2DF-488F-85C9-8BC7AFC93528}" type="datetime1">
              <a:rPr lang="en-US"/>
              <a:t>07/30/26</a:t>
            </a:fld>
          </a:p>
        </p:txBody>
      </p:sp>
    </p:spTree>
  </p:cSld>
  <p:transition>
    <p:wipe dir="d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3000"/>
                            </p:stCondLst>
                            <p:childTnLst>
                              <p:par>
                                <p:cTn id="2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4000"/>
                            </p:stCondLst>
                            <p:childTnLst>
                              <p:par>
                                <p:cTn id="29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0"/>
                            </p:stCondLst>
                            <p:childTnLst>
                              <p:par>
                                <p:cTn id="30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6000"/>
                            </p:stCondLst>
                            <p:childTnLst>
                              <p:par>
                                <p:cTn id="3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7000"/>
                            </p:stCondLst>
                            <p:childTnLst>
                              <p:par>
                                <p:cTn id="3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8000"/>
                            </p:stCondLst>
                            <p:childTnLst>
                              <p:par>
                                <p:cTn id="3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9000"/>
                            </p:stCondLst>
                            <p:childTnLst>
                              <p:par>
                                <p:cTn id="3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1000"/>
                            </p:stCondLst>
                            <p:childTnLst>
                              <p:par>
                                <p:cTn id="3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3000"/>
                            </p:stCondLst>
                            <p:childTnLst>
                              <p:par>
                                <p:cTn id="3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6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1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450E92-068E-421D-8F17-6D97CA0783F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9852C1D6-F019-4997-A80A-E54E82B812A7}" type="datetime1">
              <a:rPr lang="en-US"/>
              <a:t>07/30/26</a:t>
            </a:fld>
          </a:p>
        </p:txBody>
      </p:sp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6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7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0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7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5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76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