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679C-0B67-4076-A1D7-B354DCFA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69DF-6927-4E8F-823D-F6D48451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E0A76A-1FA0-49B2-AA97-70001946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89E0E8-4295-4896-9243-C69A53C80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032F0-C73E-4692-96A8-93610E57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748B0-B7AE-473B-B2DE-6D9395FE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E112C-FECF-4EA7-8508-FEE5A554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859B3F-6663-409A-BFC4-8E3C8419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E7623-5FCB-43B1-ABDF-50B595AF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2698B6-2619-46BC-A2BF-E5ADA8E3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DF83B-D66D-4967-90C4-656A11CF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7CA858-EF9F-475D-B891-452B40572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FE9-78D6-49F2-A09F-F2B828C6B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7C866A-A6C7-4CF7-A108-7F917DC70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C44C8B-BFE4-4D91-9429-BC893D0B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FA8239-FC05-42A7-BC11-B8AD3265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29FA6C-1EF3-48DB-93B4-ABD8BFFC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228BF61-7C7A-4EA8-82C4-A91D0C57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31A291-3353-49CA-8BDB-5ECEEBA7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F37C1A-9E0F-43BA-B97A-79EFB2F9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D7D578-7CC1-45C7-81BA-08DC5E6A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116CAB-5FFD-43E4-B68E-0E63A14A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A585CB-49EB-47DB-9451-0C251BE4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622-FE31-4EDD-9181-7B35A5E2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210E81-4FAC-44AA-A9F9-85C0D7350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B89E8-46A3-4F79-9DB4-8EC15030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C0E20-0775-407C-B425-8CABF6A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656DB-2588-4DE0-83A0-760CF549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13AFC-6119-48E0-A507-BDB63A7E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FABEB9-939D-461A-BFD0-67C6F915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47343-A1DE-4521-A385-131307EC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157B6-D179-417F-A62F-D7BD33EA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65781-4A6C-4CC9-A717-E09C3FFC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19111-C97A-4931-A117-2D2BFA10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1B86-68FF-418C-8CAE-9DECCD3E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E84B6-4A71-4583-B9A0-7AE1E12E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58921E-57E5-4C51-ACB1-172D5D29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C4E92-ADDB-44D8-96BA-A0973E6E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0A766-BAC1-4CDC-93EA-81EEC54C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A4BA7-BC05-4C19-A948-E8491E6A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A8BED-C047-40D3-AC2C-44E6887F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742F1-D419-494B-897B-DDB80F14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CD60D8-93B1-4E95-8DDE-ED706A133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304297-5810-4ECF-B2AE-62F28B3FF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B8CBC2-6852-4046-9B54-8C116EA2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4B9C-A13B-43ED-A482-95E07048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C7E09-CAC7-45CC-B6DE-598A5043B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005EF-EB2B-4E82-9823-809FEAA0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EA577-CAAA-4ED9-8593-372B946A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79E16-AFBC-4DEE-B6F8-53E92992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E30536-16DC-4FDE-97C2-2AF5A5C71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C069-753F-4798-9F87-E014DF3D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AB88-2103-475A-ADE3-F07440C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129B-DFE8-4179-909A-A48683FC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A258-04B7-4AD4-86C0-81A54F3F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83F0-87C0-47D5-A409-3DE8362F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785E-8264-4359-8C7C-CA055044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FC49-39EE-4858-9513-0FE923038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2A28-EC68-4CE8-9125-E9919E3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94F12-85E8-4600-B421-F079F76F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7BCE-AEB8-41D3-A703-EDA1D7A9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C49C-1C59-42A1-84BF-22D035DA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0B4FF-52AB-4235-82E8-4E6FD492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B47B4-A6B1-4FEE-B29C-6237E591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49FDA-17B9-42F2-A128-5C0B969E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41C95-AA4E-4F23-9C42-CF667A59A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CCF16-FDD6-491E-B46A-E5F27B62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CD6-C7CA-4F05-8EB5-1AD5B83B2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D5954-4A25-427A-8F3C-04603974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90BC7-6467-4EC9-AD93-24B22847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BFEA3-26F2-42B3-A0A5-1B6F2C9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6AD33-F8D5-4136-855D-4E6B3CDD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3ADEC-0935-45BB-9210-33D7050F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F9FE8-06E8-486C-9553-E257FADFD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87F7A-52EF-4FC6-B9E7-2D13B4B7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77F59-D51D-435C-A250-5694128A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BEA7F-DB86-470E-AE0D-503EC867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E86E8-2931-4C81-8A63-DC27968C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452-0CFF-4E20-9D83-A24A884D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EBA13-BCB1-408E-B22D-039D682B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2B47-1409-4FF2-B447-24F51FD4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402C7-BD01-4237-B948-57185510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C9C59-8CB7-4837-BE13-FCED6235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AE427-D156-48F7-B63E-84431F1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61AE-88EE-4DE1-8BAC-5A504E3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4DCB-32BD-4D36-B7B3-B6C1F420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7891-536A-4164-9854-443B9A73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2509-C54F-4CFB-B793-C3088BD80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1A9983-0151-40FF-BB87-E77C6C73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107-ECDD-4E83-A442-38A5B69B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709E0-887A-42F5-B9CD-062F9271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C4F786-32EE-47B8-B8F1-B8BDC55D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99BDD4-F526-4872-9D39-609689D93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C63CA9-64A8-45B5-84ED-B6BC21DB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108AD-6707-479A-BCCC-42D7EC8D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ACB21-0F1B-49D9-851C-3A6052AF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7A0D4B-26A0-4DE5-9E8D-6A723405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E797F-DC3E-4EF1-8E20-0E5B70C4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0E3606-8E3C-4804-9F7F-1AC7A4EE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4F61D4-4DB7-4613-851D-51C074C9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1864-43C6-4709-827A-8B9892F84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3FB848-F84B-4596-982E-44C8EDF5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DA47-277B-4962-B28D-0CA71148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140A7-7562-4EDA-84E1-F7ECFBE7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B50FC-BDAE-47EC-8DE5-87746445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CA4D2-4CB0-4561-8B80-B0ED07E2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DC6E-6D48-4DAD-B31A-C212AADE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693C0-C12B-4F7C-88F9-CCBE9B14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8BB0C-C520-4105-B161-08ED2AF7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4E9DE-CC02-4822-B53A-40C0DB56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A3EB3-004D-4C89-9382-69829C93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FA22-2D76-43BE-85CD-8F2F8C5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FE690-A17A-42A0-AEED-9CA146E2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233F3-2D2E-4A96-922E-E8EC1542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F82F3-A8EC-451A-96E2-198D218E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6F9AE-003F-4A1A-93AA-BF5477AA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088448-E44E-4FBD-8F74-0382ACCB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66CDC-3DA0-45EC-86DF-00117453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48617-D859-4762-9BAA-BA19DEA3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E56FA-21D1-4D26-AAFA-F72C4BA8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E34A0-C1F3-470C-9005-B6E40FD5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C7D22-BC49-4A26-972B-5948A42D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C786-AD2C-419B-BA60-7F1A83E35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C5CC4-8430-4E68-91C2-B836DD8B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9A12C-F374-4DAF-A690-3001DEC8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077D1-A7F2-47AF-B180-50FAB700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41466-5AEC-4AFC-9F0F-8E9CBF514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FFD75-2B05-427C-82EC-118F2A51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3A5CF-B1C5-485A-B785-C371FCEFA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36B70-1A0A-4F8F-8385-DB972275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F771F-2A83-4DCD-9CF2-58AEA610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BF0A7-299E-4661-8BAE-3E35D434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4B3AC5-A895-4DC0-B159-A1C1B526B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4041-F3A0-44F4-9552-97C6A5A7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533DF-C9FB-4F82-8522-8DA4A529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530C3-507E-4B87-AF91-7E4395C9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A30FB-B28C-405C-899D-C427C800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866DD-A502-41A6-A40A-168E8217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241B0-9E71-4E71-8FA7-5D6D994A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BFD95-B67D-408B-B26A-A8AB40E6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607ED-2CB7-4669-9B55-81E89E57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4F1C9-8314-4762-A29C-DEE51C93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AF42E-2F04-454B-B493-531C0775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35652-B99F-4AC1-B9B7-FF7A5904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08B3-5CD4-43D1-99F3-88806D5DEFF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64FB-9C2C-4845-9A9B-BEECE3E6F11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728D-3041-4DE0-BC3D-2A94F884C6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C2E9-AE7D-4F4D-A7A9-E27A0FE67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6347-6C08-4345-8068-B7D969786E4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9A85-21A5-465D-B6EC-FB45F8E41E1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153D-6FD1-47B9-AA09-E508BAF4A41A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9EBC4-FE61-4EB9-9105-278C3810387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0E3A-8E38-4807-8945-0B71152EC43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98A2-43D3-47FD-8CDD-933E5A0CE25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4879-1A23-4A9D-8F19-92E0383EF0F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4F5F-318D-4AAC-980F-4ED064EF0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AEB2-B280-49A0-B899-AC9A6244BA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06CE-D47E-41A7-9370-0393464CD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629E-FB2D-49B9-9F45-A5516E3D0DF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775D-5E35-47FD-9D93-EFB73EF0008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3AA9-5C7F-4270-B756-60AF57E1E5B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C0E8-BBBF-4368-871E-AF5A8DF3D97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4F2D-E1FB-4D1B-BB17-F2C55F5B819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0F232-0F6C-44DF-AA74-F95241B837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D6FE-141C-4AD9-9734-3A6027BE377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FF122-EAEF-4112-AADB-D3C9F386BB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71D5-4F0F-402D-AFF8-568408D7AF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FBE7-886B-4714-9D4F-ED116315A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4F0-3B63-493E-82FE-B3EDF3E89A2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0DF85-291A-4EF1-A9CB-54D7E1D892BD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7C3E3-4312-461D-80BA-037667CD66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C1BE871C-FB56-47D4-B305-8B2D7EA25E91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ox(out)" transition="out">
                                      <p:cBhvr additive="repl">
                                        <p:cTn id="120" dur="5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outHorizontal)" transition="out">
                                      <p:cBhvr additive="repl">
                                        <p:cTn id="131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BF9E-8DE7-442B-AE3E-00D0A0369DE1}" type="slidenum">
              <a:t>3</a:t>
            </a:fld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B0F49D-C083-4CB6-A3E8-06C7C746AEB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D10FBE44-5743-4122-8DB4-9C496A71D596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6B9FE-6291-4EDD-B11A-86742D2CFBE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E4E7FD13-22BB-4115-8200-8B1BF76C35BA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4000"/>
                            </p:stCondLst>
                            <p:childTnLst>
                              <p:par>
                                <p:cTn id="28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000"/>
                            </p:stCondLst>
                            <p:childTnLst>
                              <p:par>
                                <p:cTn id="3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22B3E-C688-47D3-BEE2-59A64935D3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FC125C07-7AF0-448F-B8EA-A74FA41F5613}" type="datetime1">
              <a:rPr lang="en-US"/>
              <a:t>07/28/26</a:t>
            </a:fld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