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B28-6809-45DB-8DC0-0BC7CF52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9DE-F340-4216-9FD0-184BA369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705B5-C854-4BF2-B5C5-BE56C68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15D50-FC0C-4835-9EAA-2E04F62D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E0165-87B8-4097-9B26-C4FF8FDC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BA853-8C53-416C-8453-F70BBC2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AB32C-9616-4AD7-9368-5157CF6E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FAFFA-7616-485B-9CBB-F8E3626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4B49-BC88-4D98-989F-61C7DCB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D4810-BC64-418C-BF17-6A2213E9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F7C7-B254-4976-82AD-11B8FB9E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2D0EB8-A376-43C2-AB1C-8FB8FDD2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4C1-4E7C-4DC6-853D-25060DA2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9B5E8-CCCF-462A-834D-098CDE76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64F99-2008-4420-B125-9989B5CD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F3DBB-975C-4023-823C-6169DDAF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CEA57E-5F52-4429-90E4-3D1D4C2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F51ECA-DF67-4215-B12E-0FDDCB4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93A72-F23A-488A-8293-78FAD450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589F75-62AD-4D8F-90F7-7268EE4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142C10-B456-4E9F-BE90-5F317E6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E43E8B-3C9A-46D7-86EA-201F7D6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A5AE80-98B2-485F-819E-B64FA737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425-6EC6-4B02-9DFC-8615019C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B7254A-723B-4A5D-B638-F40CA841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92766-385F-48A9-94A0-E8A9340D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51608-715D-4DF9-9BC1-E12D70E1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74C29-5C40-4F9D-83AC-00838E3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21194-D079-4D71-B392-856C937B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DB6CB-FC6B-405F-B7E6-F247866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9B011-E4E1-44C5-A1FA-26947C7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436ED-85FA-4C71-B382-359D670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70214-8BDE-4E73-BC16-75B3F7D8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37523-B165-42F6-90E7-4C5A227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84AF-1824-4443-9155-34610D43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CDBE5-B7AD-4258-B9EE-06586D8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4BA5-94C5-4F37-A8AA-53AFF0B0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E1A9-BC05-4A8B-B4A7-A10F2309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DA6CA-2565-4696-B11F-66F3CD6A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523D-F60F-4911-B3C6-7F911BE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30BA-49DB-49F0-9C21-E6427E6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81D67-7DCD-4EAF-AED2-3625A98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A21BB-187C-4E5C-810E-34B122E7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5C5A9-2FF6-4B20-8C33-EE500194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F43B3-F567-4F30-A8A2-4E0AE7CE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327E-449D-42B1-AF9C-EAA9EE89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4A73-5B4B-4ED4-ACFD-6CFBA0DC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F6C5A-8528-4ECA-8F3E-B1DD17A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50C87-B957-4185-AEF2-FE29959E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F964B-BA6A-4DC8-8914-6C03DA6C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2C2A9-E17B-4FB0-B6AD-0371C4AA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42B-6CC3-4401-B434-E257E10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1568-2D3F-450F-A427-23D899F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881-D556-4235-9F67-FC1CA8E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5E3-2DC6-41E0-8D15-940EBCB8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4391-82B6-4C2B-8B01-6EE1826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AC74-D2A7-4B10-984B-4AC3DAB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98D-C7BF-44C7-81E9-725B894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376-7587-478C-BC77-8054F3AF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DD40-CA10-471C-8991-A1CA0CDB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67D-4006-465B-B50A-03D4A0F6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AE6-B823-4697-AC60-6CCF184D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2F13-8E16-492B-8282-C24FA851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C149-6546-433A-9D36-6CC5B771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2E3C-F7BC-4501-B219-85F6337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6548-EBEB-4142-9844-1E2D6CB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74D4-170E-4533-AEAD-D992FB15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25B-6B90-437B-A673-9AC9134F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D5B29-3CFF-4666-82FB-F988EAC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C782-7E51-4DE2-B074-308143F2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5AF80-7C1C-40DB-88BA-216ECC1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8245B-91C8-4BED-984E-7BA8274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317AB-7136-4249-8A81-1610C63E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8AB4-FEC1-4269-9585-16183D54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6742-3D32-4176-92B6-42A9790E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9B17-92BB-4187-991F-8EED4AEC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AA91-91B0-4BAD-8435-291E1686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86987-E0F7-4A84-B697-AB94F1E4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400D-A795-4FC8-B932-BFF545EE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D0BB-B5FF-4DE4-8928-BAFF86E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1A99-4E73-4697-B602-CA87B9D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CC3F-B87C-4336-8D60-826E56EC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CD40-62F7-449D-BC0E-7A13151E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FAA5-15DF-4622-A800-A52220D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CCC5-1E05-489A-BF71-2DAE7B0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EC0FB-ED74-4FBA-BAD6-DEBD4340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EE70-E15D-4E8C-AECC-47F6B863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5A40-7C59-414B-BC0E-FD6CE656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7C0AF-215C-4ACC-8CFF-557C934B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E93-3271-45D1-BC11-5F1090EA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B6DA5-55B1-4393-A17C-176AE97B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1820D-4540-4B69-BBE8-5C4A0016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CB0CA-6F28-41FC-92A1-9E1B62A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C756D-AA14-4906-9FE3-2C625DD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26AAC-900D-49A2-B037-3FB8D098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55BD4-4CAA-4784-9498-867F15B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0342A-9700-4BA3-818A-05119FB6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8DA2D-5D02-4118-9A59-DA892DE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5FAB8-B8A9-4548-948B-B57EB71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08ADF-1261-464E-A467-8B0AD85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F501-175D-4B17-BB95-6BD2267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04D54-88F2-4342-B625-78299EF9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B7639-6E9C-4F62-B4F2-02CC417B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2747-4361-4744-8F89-49DB0BD0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4CBB-9249-4AFB-8350-56CA097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73C1-FB02-402B-8506-AA83D0E9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C445-624E-4B74-A55F-423195FD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9A16-E0C1-4A27-A5D8-293BFBA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426D-492E-4AC0-8CEB-7AA661B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4312-55B6-4BD5-9CBA-B9DB175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F21A-38D5-4A32-BE0A-91FCDCA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445-B946-416E-82D5-65EDC63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73BF-4937-470E-92E6-121DEF8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2FE9-81FF-4A8C-A985-49C18495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C067-205B-4D23-B193-FBD7249A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1813E-7A9B-4481-B58A-CC4A8698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49271-2B1E-45AB-8F1B-86AFD142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A710C-1720-4905-BCB1-51A5D8E6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141F2-51B2-44AE-BC6E-E5475117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183B5-38E0-4073-B66F-43512AC1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3903-D19D-4C07-B4CF-FCD19620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6B721-4EAD-4A43-BDD4-1842C336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503-277B-460B-B139-C745CC2D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93D7-0208-42CC-B37F-F11C8AB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F6815-17C4-4BA0-8564-2161C42D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0C32C-89E0-447B-882B-B1860111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22508-CC04-44F1-8054-E151F3AC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600FB-8C31-4298-BD44-096306CE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5059E-E987-4A0A-9CDF-0E09D303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5200A-FC33-49EC-9752-35E204AB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A59EB-8BB2-4F8D-9C27-6029328B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3CB09-3161-47C7-9E10-24AF103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73FC-99AE-4047-811D-5B9D4B47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BB5-E1A9-4E98-ADBF-C14239A7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AB07F-0B7A-4DEF-987F-90A3AF7B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7FD84-F206-466C-9E5C-251D9C8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4A41B-24D4-4CDD-AB6E-51E12BE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94F04-C9A8-4A70-AF16-6D39578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ADD9A-2FC4-419A-8856-7225125F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724A7-79BC-4B40-83D6-970E7F8A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0D3C-715D-486E-9314-27083D4D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CEC5-5646-465C-9A03-78B18059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FAB8A-35E5-4EB1-B46F-38FB671E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1709C-E288-4996-88DA-F7CCAD1F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5EF8-A303-4AAC-96CF-A0DF779A3A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B03-00EB-4ED2-9690-5354D05929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9BB-4F76-408D-8021-A3FA3904D04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E99-119C-4D7A-B841-CA487F69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DCF-B1C4-41C3-9696-D3C5D2FBA01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1BB3-115E-4BDD-ADED-C3B33B6012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EE1A-9FAE-4886-9DB4-46112DAFF81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B2B-A197-4F49-9805-7C93CC664A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6025-910F-4AB0-8E42-6B123A6B2C2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B76B-D5EE-4116-A33D-6A9C41848F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37E3-C3D4-4AE5-8A2D-E4ACC18379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B9F6-E39E-4668-B8D7-8725DC3A7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1CE-1668-437F-90DA-A01174FF03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C907-D78C-4AD9-96DC-BFD34803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9A7-127A-4102-9FD6-D3ECA662AD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E77D-C910-44C8-8564-4433C75E838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77F9-5E7C-4FE3-A602-E0F80E2E05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16C-C13E-4780-87DE-40534CE80E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7D8-E3A3-4688-BD3C-B1D77DC4F5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EB8-FD28-49CD-86A5-E0DFA19C9B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1347-2488-4F9C-9C37-7DC4B584B37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B6DB-137A-4965-A54A-9C3380B195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7A60-3980-441A-8CA3-C5E62C8912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992B-CBBC-40DB-8AD7-7CDECB77F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463-3336-44C6-80BF-B815A599DB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51FEF-B72B-4199-808C-21C6FB61EF89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678A2-7D7E-40E4-8ABF-5B3A9DF94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F019AE0-FEB4-4708-90A5-74E95F27A12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97D31-7D4D-403E-A335-2116CC2FF263}" type="slidenum">
              <a:t>3</a:t>
            </a:fld>
          </a:p>
        </p:txBody>
      </p:sp>
    </p:spTree>
  </p:cSld>
  <p:transition>
    <p:comb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E6CBB-8D15-4D58-8140-FED2634629E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F97FADDE-9140-4948-A9C5-93C81DB53F4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F30A3-D6F1-4ABC-9260-ADDC44473D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2275F85-0E7E-47B8-AA44-4DD810720FB6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99E41-9750-4777-BD05-3497684F34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2F83458-CC91-4F21-B605-11C43F928D6B}" type="datetime1">
              <a:rPr lang="en-US"/>
              <a:t>07/28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