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77706"/>
        <c:axId val="98848279"/>
      </c:barChart>
      <c:catAx>
        <c:axId val="81677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48279"/>
        <c:crosses val="autoZero"/>
        <c:auto val="1"/>
        <c:lblAlgn val="ctr"/>
        <c:lblOffset val="100"/>
        <c:noMultiLvlLbl val="0"/>
      </c:catAx>
      <c:valAx>
        <c:axId val="98848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77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032-554F-48E0-A848-2746F467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10E-7A2E-4C31-BD7E-4C07B71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325-A742-444A-AF7E-481DE7ED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F80-CC53-45A9-B978-AF71053C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12A-FFD8-47C1-98CB-82B7C1D0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BBC-647A-4C35-8807-E2F1FD40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899-A1A2-4C5D-8D02-DA460CD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5C0-C91D-4FAF-B269-4DEE2A97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AAC-D8E8-4AA7-AFD8-015F00FC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184-D9B7-478A-B07B-62E9967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864-A5AD-4894-9C51-61D0616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879-B01A-45ED-9148-F5E4407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E6DE0-B0B1-4E76-8CC9-B8701177F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