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35965"/>
        <c:axId val="72497198"/>
      </c:barChart>
      <c:catAx>
        <c:axId val="26735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97198"/>
        <c:crosses val="autoZero"/>
        <c:auto val="1"/>
        <c:lblAlgn val="ctr"/>
        <c:lblOffset val="100"/>
        <c:noMultiLvlLbl val="0"/>
      </c:catAx>
      <c:valAx>
        <c:axId val="724971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35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F13-EFBA-48CE-831E-26775CB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3E2-396F-432D-8E8E-698A0FB7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3B0-BE09-4E8B-8F5D-BFFE9614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1FF-FB54-4E9B-87C4-DF30D81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4AA-B70B-4FB7-A8CE-C99198E5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A14-1F82-42A4-A941-219AEFAF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5A4-48E6-44C3-B72B-DBDA44C5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1E2-02E3-411C-8584-DF8D22B4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C22-332D-40B0-A4DD-79074DC1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908-DD50-48B4-BC9E-C344451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80C-BFC1-4E79-9DBA-7685E16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178-0BA9-4BDA-B51E-F4F14F9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CD797-ADC9-4155-9690-1DF2444D76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