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46232"/>
        <c:axId val="74589508"/>
      </c:barChart>
      <c:catAx>
        <c:axId val="42946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89508"/>
        <c:crosses val="autoZero"/>
        <c:auto val="1"/>
        <c:lblAlgn val="ctr"/>
        <c:lblOffset val="100"/>
        <c:noMultiLvlLbl val="0"/>
      </c:catAx>
      <c:valAx>
        <c:axId val="74589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46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E2F-73A7-4F68-82EF-BAB1EB13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E21-605E-4ED2-B44C-5CF71C81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0E5-A5D2-491C-B05E-79ECD52C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696-34B7-4AFF-87E2-43CF10AA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07E-710A-45BA-91A9-CA5D2B07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DA0-5D15-453A-B65C-4B73D912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362-CA15-4FED-B23E-AABBAEA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91C-6E42-4914-83C7-E210D285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58B-FC90-456E-87CF-65B887B6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EBE-204D-420D-8589-1E6C1C4E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8AD-6220-457C-A633-D6AFB21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544-4440-4C42-9621-57DA3F85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84916-13FB-42AD-BD75-5DE1608B62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